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B1F5-AAEC-4365-AFFB-09B59BD51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A85-C759-4658-95F0-B994735FA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D5F-B85A-4FEF-8167-AE9D0AAD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9B3-098E-48D2-B0A7-D3E28A1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E08-20DF-463C-ADD9-9449F2A3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242-A113-44CF-93F0-D6EDE0E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30F-6C04-4236-A792-4D8161A7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C2A-0601-4D3B-97A2-B57ACC14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137-A2DC-420C-BC81-C4ACC569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781-7E32-41CD-9AA3-E76646D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3EB-9DE1-488E-BE08-B55ED5E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974-8500-464B-B920-27792F6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E15-9958-4DE6-9AE7-11F6B99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949-4F11-4F39-9469-C190CCB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F757-9E4D-4A95-BDDD-87ED65A1B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0/Persepolis_24.11.2009_11-49-59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ehmooni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an and Pers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Far have They 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keem 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and Persia are interchangeable to mean the sam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is leg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ia was an ancient Kingdom within I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the dominant kingdom in Iran gave Persia it’s powerful outlook similar to England in Brit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historically Pers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8/84/KyrosCeremonies.jpg"/>
          <p:cNvPicPr/>
          <p:nvPr/>
        </p:nvPicPr>
        <p:blipFill>
          <a:blip r:embed="rId1"/>
          <a:stretch/>
        </p:blipFill>
        <p:spPr>
          <a:xfrm>
            <a:off x="5867280" y="4648320"/>
            <a:ext cx="39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les and stones were main parts of the Iranian and Persian artistic buil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gs were made from wool and silk wea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untry had these materials but the people were hard workers but po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oyalties were kept by the Kings and Empi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freedom of expression-fear of being persecuted did not allow the people to fight for better living and showing off their artistic and musical skills to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ile:Persepolis 24.11.2009 11-49-5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8160" y="4343400"/>
            <a:ext cx="4695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35 President of Iran promised minorities to expand the use of their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te 1960’s and early 1970’s Iranian art boomed and was made available to the rest of the world. American galleries sold many of these contemporary 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After the Iran-Iraq war of 1980-1988 arts facilities reopen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d 1990’s movie theaters took flight with Iranian film and photography and schoo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were more involved in illustrating their music and artistic cul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gs and worshipping songs are very popular here in the U.S. with the Islamic population growing very f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he Iran-Iraq war of 1980-1988 arts facilities reopen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d 1990’s movie theaters took flight with Iranian film and photography and schoo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were more involved in illustrating their music and artistic cul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gs and worshipping songs are very popular here in the U.S. with the Islamic population growing very f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Mehmooni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867280"/>
            <a:ext cx="1352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up: Iranian Cinema, Past, Present, Future (2001) Hamid Dabas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ite-Persia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0:21:24Z</dcterms:created>
  <dc:creator>libint07</dc:creator>
  <dc:description/>
  <dc:language>en-US</dc:language>
  <cp:lastModifiedBy>139634</cp:lastModifiedBy>
  <dcterms:modified xsi:type="dcterms:W3CDTF">2013-12-17T13:13:13Z</dcterms:modified>
  <cp:revision>1</cp:revision>
  <dc:subject/>
  <dc:title>Iran and Persia </dc:title>
</cp:coreProperties>
</file>